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D27-BDAB-46D5-A02E-03BC9299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585B-A504-4543-911E-37C798FA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7AB5-B30A-4F0D-ACC6-6B21FEE4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05D5-E515-4BB5-A400-E77775A3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4BBF-4CAB-48FC-85E6-74EE7638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DC8A-0E75-483C-9431-95EC275A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2EF7-F632-4A50-814E-5C285BC2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AE34-CA4C-4FFF-A0D3-386B403F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2CCA-728B-43A5-8DA8-EE81066C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F62E-CCE6-4684-885C-FCA60CA1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2906-7D44-4F95-A80C-910A6FA7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4DA9-0E4B-4499-98D3-CB54A93A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F3B8-78F8-4BFF-9395-358C2107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82FE-1CD8-4792-898F-37D6B3EF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7187-0FC2-4783-899B-E97B13A9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B6F0-52B2-4BDE-96BB-C167D284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F06D-335D-41D2-8CA1-4EF1EC0C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06A5-39E9-43E3-880C-2B7A8E2D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BCCA-939E-4F6A-8878-40617757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03C3-3922-443C-848C-71E33489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940A-D445-42FD-9C8B-95E25AC3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E572-C698-4220-B4C4-677C977B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5DC7-C269-4FD4-8537-27DB3C46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74E3-DF9A-4031-BAA5-2AE92855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A6F0-9226-48AC-B15A-D857ECB41B52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9ED7-1C6F-4F89-A424-4F925CC3DCAD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frenchnetwork-act.wikispaces.com/" TargetMode="Externa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00"/>
                </a:solidFill>
                <a:latin typeface="Comic Sans MS"/>
              </a:rPr>
              <a:t>French Network Worksho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rimary – 31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M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Secondary – 10 Ju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-81900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b200"/>
                </a:solidFill>
                <a:latin typeface="Comic Sans MS"/>
              </a:rPr>
              <a:t>Slow reveal (with objectives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0" y="692280"/>
            <a:ext cx="4103640" cy="307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4284720" y="765000"/>
            <a:ext cx="3960720" cy="2971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3"/>
          <a:stretch/>
        </p:blipFill>
        <p:spPr>
          <a:xfrm>
            <a:off x="2484360" y="3886200"/>
            <a:ext cx="3960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-675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b200"/>
                </a:solidFill>
                <a:latin typeface="Comic Sans MS"/>
              </a:rPr>
              <a:t>Repeat in True – All in a li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22800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41040" y="-675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b200"/>
                </a:solidFill>
                <a:latin typeface="Comic Sans MS"/>
              </a:rPr>
              <a:t>Missing pictu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4516200" cy="3387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3851280" y="3146400"/>
            <a:ext cx="494820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-7480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b200"/>
                </a:solidFill>
                <a:latin typeface="Comic Sans MS"/>
              </a:rPr>
              <a:t>Mime and Gu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0" y="836640"/>
            <a:ext cx="5021280" cy="3765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000" y="-5320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b200"/>
                </a:solidFill>
                <a:latin typeface="Comic Sans MS"/>
              </a:rPr>
              <a:t>Coloured senten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25328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5280" y="-5320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b200"/>
                </a:solidFill>
                <a:latin typeface="Comic Sans MS"/>
              </a:rPr>
              <a:t>Jeu de onz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53256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000" y="-5320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b200"/>
                </a:solidFill>
                <a:latin typeface="Comic Sans MS"/>
              </a:rPr>
              <a:t>Army General – Ping Po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4316400" cy="2449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38829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000" y="-763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b200"/>
                </a:solidFill>
                <a:latin typeface="Comic Sans MS"/>
              </a:rPr>
              <a:t>Chef d’orchest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777708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0920" y="-5320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b200"/>
                </a:solidFill>
                <a:latin typeface="Comic Sans MS"/>
              </a:rPr>
              <a:t>Back to ba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856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00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b200"/>
                </a:solidFill>
                <a:latin typeface="Comic Sans MS"/>
              </a:rPr>
              <a:t>Connect 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653256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Ideas of activities (Powerpoint, IWB, songs, OHT…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Wikisp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Have a go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-459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b200"/>
                </a:solidFill>
                <a:latin typeface="Comic Sans MS"/>
              </a:rPr>
              <a:t>Treasure Hu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82164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-7480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b200"/>
                </a:solidFill>
                <a:latin typeface="Comic Sans MS"/>
              </a:rPr>
              <a:t>Battleshi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488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000" y="-603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b200"/>
                </a:solidFill>
                <a:latin typeface="Comic Sans MS"/>
              </a:rPr>
              <a:t>SON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232200" y="189000"/>
            <a:ext cx="614412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Our French Network « wiki »!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frenchnetwork-act.wikispaces.com/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7327800" cy="37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210280" cy="3076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0" y="1052640"/>
            <a:ext cx="8265960" cy="43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5" name="Line 4"/>
          <p:cNvSpPr/>
          <p:nvPr/>
        </p:nvSpPr>
        <p:spPr>
          <a:xfrm flipV="1">
            <a:off x="6227640" y="1197000"/>
            <a:ext cx="79236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2381400" y="2557440"/>
            <a:ext cx="4381200" cy="1743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0" y="1052640"/>
            <a:ext cx="8265960" cy="43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8" name="Line 4"/>
          <p:cNvSpPr/>
          <p:nvPr/>
        </p:nvSpPr>
        <p:spPr>
          <a:xfrm flipV="1">
            <a:off x="6588000" y="1268280"/>
            <a:ext cx="79236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2087280" cy="1417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2103120" cy="3889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3"/>
          <a:stretch/>
        </p:blipFill>
        <p:spPr>
          <a:xfrm>
            <a:off x="3059280" y="476280"/>
            <a:ext cx="2330280" cy="2951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4"/>
          <a:stretch/>
        </p:blipFill>
        <p:spPr>
          <a:xfrm>
            <a:off x="5580000" y="549360"/>
            <a:ext cx="2092320" cy="31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2736720" cy="1035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7969320" cy="704520"/>
          </a:xfrm>
          <a:prstGeom prst="rect">
            <a:avLst/>
          </a:prstGeom>
          <a:ln w="0">
            <a:noFill/>
          </a:ln>
        </p:spPr>
      </p:pic>
      <p:sp>
        <p:nvSpPr>
          <p:cNvPr id="225" name="Line 4"/>
          <p:cNvSpPr/>
          <p:nvPr/>
        </p:nvSpPr>
        <p:spPr>
          <a:xfrm flipH="1">
            <a:off x="2987280" y="1052640"/>
            <a:ext cx="1297080" cy="21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Line 5"/>
          <p:cNvSpPr/>
          <p:nvPr/>
        </p:nvSpPr>
        <p:spPr>
          <a:xfrm flipH="1" flipV="1">
            <a:off x="4284360" y="2492280"/>
            <a:ext cx="1297080" cy="11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5184720" cy="3975120"/>
          </a:xfrm>
          <a:prstGeom prst="rect">
            <a:avLst/>
          </a:prstGeom>
          <a:ln w="0">
            <a:noFill/>
          </a:ln>
        </p:spPr>
      </p:pic>
      <p:sp>
        <p:nvSpPr>
          <p:cNvPr id="228" name="Line 3"/>
          <p:cNvSpPr/>
          <p:nvPr/>
        </p:nvSpPr>
        <p:spPr>
          <a:xfrm flipH="1" flipV="1">
            <a:off x="6012000" y="2565360"/>
            <a:ext cx="1296720" cy="11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4883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0000"/>
                </a:solidFill>
                <a:latin typeface="Comic Sans MS"/>
              </a:rPr>
              <a:t>Activities for presenting, repeating and practising languag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769608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Ideas from St Martins college / University of Lancaster (Englan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b200"/>
                </a:solidFill>
                <a:latin typeface="Comic Sans MS"/>
              </a:rPr>
              <a:t>Quick flash on Power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3348000" y="2421000"/>
            <a:ext cx="2447640" cy="2959200"/>
            <a:chOff x="3348000" y="2421000"/>
            <a:chExt cx="2447640" cy="2959200"/>
          </a:xfrm>
        </p:grpSpPr>
        <p:pic>
          <p:nvPicPr>
            <p:cNvPr id="158" name="Picture 3" descr="EDS009"/>
            <p:cNvPicPr/>
            <p:nvPr/>
          </p:nvPicPr>
          <p:blipFill>
            <a:blip r:embed="rId1"/>
            <a:stretch/>
          </p:blipFill>
          <p:spPr>
            <a:xfrm>
              <a:off x="3348000" y="2421000"/>
              <a:ext cx="1522080" cy="29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AutoShape 4"/>
            <p:cNvSpPr/>
            <p:nvPr/>
          </p:nvSpPr>
          <p:spPr>
            <a:xfrm>
              <a:off x="4644720" y="2637000"/>
              <a:ext cx="1150920" cy="720720"/>
            </a:xfrm>
            <a:prstGeom prst="wedgeEllipseCallout">
              <a:avLst>
                <a:gd name="adj1" fmla="val -90689"/>
                <a:gd name="adj2" fmla="val 5462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60" name="Picture 5" descr="Big_Mth"/>
            <p:cNvPicPr/>
            <p:nvPr/>
          </p:nvPicPr>
          <p:blipFill>
            <a:blip r:embed="rId2"/>
            <a:stretch/>
          </p:blipFill>
          <p:spPr>
            <a:xfrm>
              <a:off x="4932000" y="2779920"/>
              <a:ext cx="720720" cy="31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Text Box 6"/>
          <p:cNvSpPr/>
          <p:nvPr/>
        </p:nvSpPr>
        <p:spPr>
          <a:xfrm>
            <a:off x="-59760" y="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cc0000"/>
                </a:solidFill>
                <a:uFillTx/>
                <a:latin typeface="Comic Sans MS"/>
              </a:rPr>
              <a:t>Règle numéro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0" y="685800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1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faut</a:t>
            </a: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4000" spc="-1" strike="noStrike">
                <a:solidFill>
                  <a:srgbClr val="00b200"/>
                </a:solidFill>
                <a:latin typeface="Comic Sans MS"/>
              </a:rPr>
              <a:t>lever</a:t>
            </a: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4000" spc="-1" strike="noStrike">
                <a:solidFill>
                  <a:srgbClr val="cc0000"/>
                </a:solidFill>
                <a:latin typeface="Comic Sans MS"/>
              </a:rPr>
              <a:t>la</a:t>
            </a: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 main pour </a:t>
            </a:r>
            <a:r>
              <a:rPr b="1" lang="fr-FR" sz="4000" spc="-1" strike="noStrike">
                <a:solidFill>
                  <a:srgbClr val="00b200"/>
                </a:solidFill>
                <a:latin typeface="Comic Sans MS"/>
              </a:rPr>
              <a:t>parl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16000" y="707400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1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faut</a:t>
            </a: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4000" spc="-1" strike="noStrike">
                <a:solidFill>
                  <a:srgbClr val="00b200"/>
                </a:solidFill>
                <a:latin typeface="Comic Sans MS"/>
              </a:rPr>
              <a:t>lever</a:t>
            </a: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4000" spc="-1" strike="noStrike">
                <a:solidFill>
                  <a:srgbClr val="cc0000"/>
                </a:solidFill>
                <a:latin typeface="Comic Sans MS"/>
              </a:rPr>
              <a:t>la</a:t>
            </a: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 main pour </a:t>
            </a:r>
            <a:r>
              <a:rPr b="1" lang="fr-FR" sz="4000" spc="-1" strike="noStrike">
                <a:solidFill>
                  <a:srgbClr val="00b200"/>
                </a:solidFill>
                <a:latin typeface="Comic Sans MS"/>
              </a:rPr>
              <a:t>parl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431640" y="7289640"/>
            <a:ext cx="882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1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faut</a:t>
            </a: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4000" spc="-1" strike="noStrike">
                <a:solidFill>
                  <a:srgbClr val="00b200"/>
                </a:solidFill>
                <a:latin typeface="Comic Sans MS"/>
              </a:rPr>
              <a:t>lever</a:t>
            </a: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4000" spc="-1" strike="noStrike">
                <a:solidFill>
                  <a:srgbClr val="cc0000"/>
                </a:solidFill>
                <a:latin typeface="Comic Sans MS"/>
              </a:rPr>
              <a:t>la</a:t>
            </a: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 main pour </a:t>
            </a:r>
            <a:r>
              <a:rPr b="1" lang="fr-FR" sz="4000" spc="-1" strike="noStrike">
                <a:solidFill>
                  <a:srgbClr val="00b200"/>
                </a:solidFill>
                <a:latin typeface="Comic Sans MS"/>
              </a:rPr>
              <a:t>parl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6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Motion origin="layout" path="M -3.88889E-006 -3.7037E-007 L 0.00191 -0.23611 E">
                                      <p:cBhvr>
                                        <p:cTn id="42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voyagesscolaires"/>
          <p:cNvPicPr/>
          <p:nvPr/>
        </p:nvPicPr>
        <p:blipFill>
          <a:blip r:embed="rId1"/>
          <a:stretch/>
        </p:blipFill>
        <p:spPr>
          <a:xfrm>
            <a:off x="3059280" y="1628640"/>
            <a:ext cx="3517560" cy="31831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179280" y="692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99"/>
                </a:solidFill>
                <a:latin typeface="Comic Sans MS"/>
              </a:rPr>
              <a:t>Il y aura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3200" spc="-1" strike="noStrike">
                <a:solidFill>
                  <a:srgbClr val="1a8911"/>
                </a:solidFill>
                <a:latin typeface="Comic Sans MS"/>
              </a:rPr>
              <a:t>beaucoup plus de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 voyages scolai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750960" y="2676600"/>
            <a:ext cx="1631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0" spc="-1" strike="noStrike">
                <a:solidFill>
                  <a:srgbClr val="1a8911"/>
                </a:solidFill>
                <a:latin typeface="Comic Sans MS"/>
              </a:rPr>
              <a:t>++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9144000" y="404640"/>
            <a:ext cx="91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99"/>
                </a:solidFill>
                <a:latin typeface="Comic Sans MS"/>
              </a:rPr>
              <a:t>Il y aura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3200" spc="-1" strike="noStrike">
                <a:solidFill>
                  <a:srgbClr val="1a8911"/>
                </a:solidFill>
                <a:latin typeface="Comic Sans MS"/>
              </a:rPr>
              <a:t>beaucoup plus de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 voyages scolai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9144000" y="333360"/>
            <a:ext cx="91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99"/>
                </a:solidFill>
                <a:latin typeface="Comic Sans MS"/>
              </a:rPr>
              <a:t>Il y aura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3200" spc="-1" strike="noStrike">
                <a:solidFill>
                  <a:srgbClr val="1a8911"/>
                </a:solidFill>
                <a:latin typeface="Comic Sans MS"/>
              </a:rPr>
              <a:t>beaucoup plus de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 voyages scolai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9144000" y="404640"/>
            <a:ext cx="91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99"/>
                </a:solidFill>
                <a:latin typeface="Comic Sans MS"/>
              </a:rPr>
              <a:t>Il y aura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3200" spc="-1" strike="noStrike">
                <a:solidFill>
                  <a:srgbClr val="1a8911"/>
                </a:solidFill>
                <a:latin typeface="Comic Sans MS"/>
              </a:rPr>
              <a:t>beaucoup plus de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 voyages scolai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900000" y="2924280"/>
            <a:ext cx="1295640" cy="1224000"/>
          </a:xfrm>
          <a:prstGeom prst="ellipse">
            <a:avLst/>
          </a:prstGeom>
          <a:noFill/>
          <a:ln w="76320">
            <a:solidFill>
              <a:srgbClr val="1a8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robot"/>
          <p:cNvPicPr/>
          <p:nvPr/>
        </p:nvPicPr>
        <p:blipFill>
          <a:blip r:embed="rId1"/>
          <a:stretch/>
        </p:blipFill>
        <p:spPr>
          <a:xfrm>
            <a:off x="-757080" y="-1611360"/>
            <a:ext cx="2676240" cy="13143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222120" y="443700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99"/>
                </a:solidFill>
                <a:latin typeface="Comic Sans MS"/>
              </a:rPr>
              <a:t>Il y aura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 des robots au lieu des professeu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4" descr="robot"/>
          <p:cNvPicPr/>
          <p:nvPr/>
        </p:nvPicPr>
        <p:blipFill>
          <a:blip r:embed="rId2"/>
          <a:stretch/>
        </p:blipFill>
        <p:spPr>
          <a:xfrm>
            <a:off x="2411280" y="1844640"/>
            <a:ext cx="360072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903 3.7037E-007 L 0.18125 0.14792 L 0.32622 0.14792 L 0.25382 0.29861 L 0.32622 0.44653 L 0.18125 0.44653 L 0.10903 0.59722 L 0.03681 0.44653 L -0.10798 0.44653 L -0.03576 0.29861 L -0.10798 0.14792 L 0.03681 0.14792 L 0.10903 3.7037E-007 Z">
                                      <p:cBhvr>
                                        <p:cTn id="74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903 3.7037E-007 L 0.18125 0.14792 L 0.32622 0.14792 L 0.25382 0.29861 L 0.32622 0.44653 L 0.18125 0.44653 L 0.10903 0.59722 L 0.03681 0.44653 L -0.10798 0.44653 L -0.03576 0.29861 L -0.10798 0.14792 L 0.03681 0.14792 L 0.10903 3.7037E-007 Z">
                                      <p:cBhvr>
                                        <p:cTn id="78" dur="3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14240" y="-4291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omic Sans MS"/>
              </a:rPr>
              <a:t>Promethean Whitebo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4071960" cy="3081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4357800" y="3429000"/>
            <a:ext cx="4311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1280" y="-532080"/>
            <a:ext cx="72705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b200"/>
                </a:solidFill>
                <a:latin typeface="Comic Sans MS"/>
              </a:rPr>
              <a:t>Keyhole on IW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6480360" cy="4861080"/>
          </a:xfrm>
          <a:prstGeom prst="rect">
            <a:avLst/>
          </a:prstGeom>
          <a:ln w="0">
            <a:noFill/>
          </a:ln>
        </p:spPr>
      </p:pic>
      <p:sp>
        <p:nvSpPr>
          <p:cNvPr id="180" name="Line 5"/>
          <p:cNvSpPr/>
          <p:nvPr/>
        </p:nvSpPr>
        <p:spPr>
          <a:xfrm>
            <a:off x="6227640" y="1989000"/>
            <a:ext cx="21607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0:22:56Z</dcterms:created>
  <dc:creator>Ludivine Legal</dc:creator>
  <dc:description/>
  <dc:language>en-US</dc:language>
  <cp:lastModifiedBy>ludivine</cp:lastModifiedBy>
  <dcterms:modified xsi:type="dcterms:W3CDTF">2010-06-08T10:45:25Z</dcterms:modified>
  <cp:revision>9</cp:revision>
  <dc:subject/>
  <dc:title>French Network Workshop</dc:title>
</cp:coreProperties>
</file>